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FBF7-DE7A-4C45-9241-75A244E07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88E4-5273-40DD-A54C-1F1EAB47E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A8A0-E0C9-4A49-80A1-473CCEDF7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A80C-6485-4178-B2D9-4DD6F9D80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56D2F-299B-45A4-AEC8-FB40BFE06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0B884-960A-4BBE-88CA-C2D8AAE4D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0E6E8-78F6-4570-80A8-187455DB9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19A90-703B-4B38-BA11-48BEE9C40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F8A2F-D6E4-45C4-9ECC-4B4CBF61A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4D5B5-F6A4-4D6D-8DC3-73C03A051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0F32F-540A-46BA-9724-C8A40F808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64A5-259A-4723-9E05-2348514D6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69B3C-4E79-43FE-AD81-0395A505F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FB171-6838-49F6-96C6-C8B4355A6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7D162-50A1-4618-A908-414BD036E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0DE86-4D9C-472E-914C-33D390E71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E4021-577D-4CBD-8AE2-7E4879B08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9458-8FE0-4D3B-8A7C-2ECFC580C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0A64-74EB-4A72-87CC-EA832DC7B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F204-CA6B-45F4-BE8D-6F63F7C70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69CB-3AC9-439D-B2C4-8061A36F0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735D-E0F0-4F10-8F60-9AF0971F2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F1BD-349F-4453-BD4A-65D2BB2A0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65D8-C9F6-4903-81C5-1D4393B3C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1440" y="-144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1150920" y="1676520"/>
            <a:ext cx="6697800" cy="123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5800" y="613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137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13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9C8BE-CD6F-4CF0-8963-952B77490172}" type="slidenum">
              <a: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-1440" y="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2133720" y="3124080"/>
            <a:ext cx="5459400" cy="1335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520" y="17524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1523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F9946-23F2-4F05-8C1D-2A8646B57F43}" type="slidenum">
              <a: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220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1216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12164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12164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240" y="1371240"/>
            <a:ext cx="71629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Interactive Whiteboard Maintenance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Teaching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Use a dry-eraser marker and trace over the mark.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While the ink is still wet, wipe with a soft cloth.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The solvents in dry-erase ink remove permanent ink.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52880" y="2514600"/>
            <a:ext cx="3581640" cy="3124080"/>
          </a:xfrm>
          <a:prstGeom prst="rect">
            <a:avLst/>
          </a:prstGeom>
          <a:solidFill>
            <a:srgbClr val="ffffff"/>
          </a:solidFill>
          <a:ln w="38160">
            <a:solidFill>
              <a:srgbClr val="2121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562720" y="3200400"/>
            <a:ext cx="533160" cy="533520"/>
          </a:xfrm>
          <a:prstGeom prst="line">
            <a:avLst/>
          </a:prstGeom>
          <a:ln w="76320">
            <a:solidFill>
              <a:srgbClr val="2121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533920" y="3106800"/>
            <a:ext cx="711360" cy="652320"/>
          </a:xfrm>
          <a:custGeom>
            <a:avLst/>
            <a:gdLst/>
            <a:ahLst/>
            <a:rect l="l" t="t" r="r" b="b"/>
            <a:pathLst>
              <a:path w="448" h="411">
                <a:moveTo>
                  <a:pt x="52" y="64"/>
                </a:moveTo>
                <a:cubicBezTo>
                  <a:pt x="67" y="124"/>
                  <a:pt x="61" y="114"/>
                  <a:pt x="107" y="155"/>
                </a:cubicBezTo>
                <a:cubicBezTo>
                  <a:pt x="123" y="169"/>
                  <a:pt x="153" y="201"/>
                  <a:pt x="153" y="201"/>
                </a:cubicBezTo>
                <a:cubicBezTo>
                  <a:pt x="167" y="259"/>
                  <a:pt x="208" y="292"/>
                  <a:pt x="263" y="310"/>
                </a:cubicBezTo>
                <a:cubicBezTo>
                  <a:pt x="269" y="316"/>
                  <a:pt x="274" y="324"/>
                  <a:pt x="281" y="329"/>
                </a:cubicBezTo>
                <a:cubicBezTo>
                  <a:pt x="289" y="334"/>
                  <a:pt x="302" y="330"/>
                  <a:pt x="308" y="338"/>
                </a:cubicBezTo>
                <a:cubicBezTo>
                  <a:pt x="319" y="354"/>
                  <a:pt x="321" y="375"/>
                  <a:pt x="327" y="393"/>
                </a:cubicBezTo>
                <a:cubicBezTo>
                  <a:pt x="330" y="402"/>
                  <a:pt x="325" y="370"/>
                  <a:pt x="317" y="365"/>
                </a:cubicBezTo>
                <a:cubicBezTo>
                  <a:pt x="308" y="359"/>
                  <a:pt x="299" y="353"/>
                  <a:pt x="290" y="347"/>
                </a:cubicBezTo>
                <a:cubicBezTo>
                  <a:pt x="270" y="318"/>
                  <a:pt x="255" y="303"/>
                  <a:pt x="226" y="283"/>
                </a:cubicBezTo>
                <a:cubicBezTo>
                  <a:pt x="220" y="274"/>
                  <a:pt x="215" y="264"/>
                  <a:pt x="208" y="256"/>
                </a:cubicBezTo>
                <a:cubicBezTo>
                  <a:pt x="202" y="249"/>
                  <a:pt x="194" y="244"/>
                  <a:pt x="189" y="237"/>
                </a:cubicBezTo>
                <a:cubicBezTo>
                  <a:pt x="163" y="202"/>
                  <a:pt x="147" y="167"/>
                  <a:pt x="116" y="137"/>
                </a:cubicBezTo>
                <a:cubicBezTo>
                  <a:pt x="101" y="89"/>
                  <a:pt x="111" y="114"/>
                  <a:pt x="71" y="54"/>
                </a:cubicBezTo>
                <a:cubicBezTo>
                  <a:pt x="65" y="45"/>
                  <a:pt x="58" y="36"/>
                  <a:pt x="52" y="27"/>
                </a:cubicBezTo>
                <a:cubicBezTo>
                  <a:pt x="46" y="18"/>
                  <a:pt x="34" y="0"/>
                  <a:pt x="34" y="0"/>
                </a:cubicBezTo>
                <a:cubicBezTo>
                  <a:pt x="44" y="83"/>
                  <a:pt x="66" y="154"/>
                  <a:pt x="153" y="182"/>
                </a:cubicBezTo>
                <a:cubicBezTo>
                  <a:pt x="175" y="205"/>
                  <a:pt x="199" y="210"/>
                  <a:pt x="226" y="228"/>
                </a:cubicBezTo>
                <a:cubicBezTo>
                  <a:pt x="237" y="245"/>
                  <a:pt x="253" y="257"/>
                  <a:pt x="263" y="274"/>
                </a:cubicBezTo>
                <a:cubicBezTo>
                  <a:pt x="268" y="282"/>
                  <a:pt x="265" y="294"/>
                  <a:pt x="272" y="301"/>
                </a:cubicBezTo>
                <a:cubicBezTo>
                  <a:pt x="279" y="308"/>
                  <a:pt x="290" y="307"/>
                  <a:pt x="299" y="310"/>
                </a:cubicBezTo>
                <a:cubicBezTo>
                  <a:pt x="311" y="319"/>
                  <a:pt x="321" y="334"/>
                  <a:pt x="336" y="338"/>
                </a:cubicBezTo>
                <a:cubicBezTo>
                  <a:pt x="356" y="344"/>
                  <a:pt x="395" y="301"/>
                  <a:pt x="409" y="292"/>
                </a:cubicBezTo>
                <a:cubicBezTo>
                  <a:pt x="421" y="295"/>
                  <a:pt x="441" y="289"/>
                  <a:pt x="445" y="301"/>
                </a:cubicBezTo>
                <a:cubicBezTo>
                  <a:pt x="448" y="311"/>
                  <a:pt x="429" y="318"/>
                  <a:pt x="418" y="320"/>
                </a:cubicBezTo>
                <a:cubicBezTo>
                  <a:pt x="409" y="322"/>
                  <a:pt x="400" y="313"/>
                  <a:pt x="391" y="310"/>
                </a:cubicBezTo>
                <a:cubicBezTo>
                  <a:pt x="347" y="326"/>
                  <a:pt x="348" y="313"/>
                  <a:pt x="317" y="283"/>
                </a:cubicBezTo>
                <a:cubicBezTo>
                  <a:pt x="299" y="229"/>
                  <a:pt x="243" y="189"/>
                  <a:pt x="199" y="155"/>
                </a:cubicBezTo>
                <a:cubicBezTo>
                  <a:pt x="185" y="144"/>
                  <a:pt x="178" y="126"/>
                  <a:pt x="162" y="118"/>
                </a:cubicBezTo>
                <a:cubicBezTo>
                  <a:pt x="151" y="112"/>
                  <a:pt x="137" y="112"/>
                  <a:pt x="125" y="109"/>
                </a:cubicBezTo>
                <a:cubicBezTo>
                  <a:pt x="113" y="100"/>
                  <a:pt x="102" y="89"/>
                  <a:pt x="89" y="82"/>
                </a:cubicBezTo>
                <a:cubicBezTo>
                  <a:pt x="80" y="77"/>
                  <a:pt x="69" y="79"/>
                  <a:pt x="61" y="73"/>
                </a:cubicBezTo>
                <a:cubicBezTo>
                  <a:pt x="44" y="60"/>
                  <a:pt x="16" y="27"/>
                  <a:pt x="16" y="27"/>
                </a:cubicBezTo>
                <a:cubicBezTo>
                  <a:pt x="0" y="76"/>
                  <a:pt x="11" y="125"/>
                  <a:pt x="25" y="173"/>
                </a:cubicBezTo>
                <a:cubicBezTo>
                  <a:pt x="28" y="182"/>
                  <a:pt x="26" y="196"/>
                  <a:pt x="34" y="201"/>
                </a:cubicBezTo>
                <a:cubicBezTo>
                  <a:pt x="50" y="210"/>
                  <a:pt x="71" y="207"/>
                  <a:pt x="89" y="210"/>
                </a:cubicBezTo>
                <a:cubicBezTo>
                  <a:pt x="101" y="204"/>
                  <a:pt x="112" y="192"/>
                  <a:pt x="125" y="192"/>
                </a:cubicBezTo>
                <a:cubicBezTo>
                  <a:pt x="134" y="192"/>
                  <a:pt x="140" y="202"/>
                  <a:pt x="144" y="210"/>
                </a:cubicBezTo>
                <a:cubicBezTo>
                  <a:pt x="153" y="227"/>
                  <a:pt x="151" y="249"/>
                  <a:pt x="162" y="265"/>
                </a:cubicBezTo>
                <a:cubicBezTo>
                  <a:pt x="168" y="274"/>
                  <a:pt x="174" y="283"/>
                  <a:pt x="180" y="292"/>
                </a:cubicBezTo>
                <a:cubicBezTo>
                  <a:pt x="196" y="341"/>
                  <a:pt x="178" y="301"/>
                  <a:pt x="217" y="347"/>
                </a:cubicBezTo>
                <a:cubicBezTo>
                  <a:pt x="265" y="403"/>
                  <a:pt x="255" y="398"/>
                  <a:pt x="336" y="411"/>
                </a:cubicBezTo>
                <a:cubicBezTo>
                  <a:pt x="347" y="379"/>
                  <a:pt x="352" y="385"/>
                  <a:pt x="327" y="356"/>
                </a:cubicBezTo>
                <a:cubicBezTo>
                  <a:pt x="317" y="344"/>
                  <a:pt x="270" y="299"/>
                  <a:pt x="253" y="283"/>
                </a:cubicBezTo>
                <a:cubicBezTo>
                  <a:pt x="216" y="247"/>
                  <a:pt x="205" y="201"/>
                  <a:pt x="153" y="182"/>
                </a:cubicBezTo>
                <a:cubicBezTo>
                  <a:pt x="136" y="160"/>
                  <a:pt x="120" y="136"/>
                  <a:pt x="98" y="118"/>
                </a:cubicBezTo>
                <a:cubicBezTo>
                  <a:pt x="90" y="111"/>
                  <a:pt x="82" y="100"/>
                  <a:pt x="71" y="100"/>
                </a:cubicBezTo>
                <a:cubicBezTo>
                  <a:pt x="63" y="100"/>
                  <a:pt x="83" y="112"/>
                  <a:pt x="89" y="118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Teaching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If there are any traces of permanent ink left, spray the area with glass or whiteboard cleaner and wipe clean.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When removing permanent marker ink, avoid using low-odor or non-scented dry eraser markers because they do not contain the appropriate solvents.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952880" y="2514600"/>
            <a:ext cx="3581640" cy="3124080"/>
          </a:xfrm>
          <a:prstGeom prst="rect">
            <a:avLst/>
          </a:prstGeom>
          <a:solidFill>
            <a:srgbClr val="ffffff"/>
          </a:solidFill>
          <a:ln w="38160">
            <a:solidFill>
              <a:srgbClr val="2121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200400"/>
            <a:ext cx="152280" cy="152280"/>
          </a:xfrm>
          <a:prstGeom prst="line">
            <a:avLst/>
          </a:prstGeom>
          <a:ln w="76320">
            <a:solidFill>
              <a:srgbClr val="2121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781680" y="3200400"/>
            <a:ext cx="228600" cy="533520"/>
          </a:xfrm>
          <a:prstGeom prst="rect">
            <a:avLst/>
          </a:prstGeom>
          <a:solidFill>
            <a:srgbClr val="d9b18d"/>
          </a:solidFill>
          <a:ln w="9360">
            <a:solidFill>
              <a:srgbClr val="2121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0" y="3048120"/>
            <a:ext cx="76320" cy="152280"/>
          </a:xfrm>
          <a:prstGeom prst="rect">
            <a:avLst/>
          </a:prstGeom>
          <a:solidFill>
            <a:srgbClr val="d9b18d"/>
          </a:solidFill>
          <a:ln w="9360">
            <a:solidFill>
              <a:srgbClr val="2121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5638320" y="3124080"/>
            <a:ext cx="1143000" cy="76320"/>
          </a:xfrm>
          <a:prstGeom prst="line">
            <a:avLst/>
          </a:prstGeom>
          <a:ln cap="rnd" w="9360">
            <a:solidFill>
              <a:srgbClr val="0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90960" y="3124080"/>
            <a:ext cx="990360" cy="228600"/>
          </a:xfrm>
          <a:prstGeom prst="line">
            <a:avLst/>
          </a:prstGeom>
          <a:ln cap="rnd" w="9360">
            <a:solidFill>
              <a:srgbClr val="0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6019920" y="3124080"/>
            <a:ext cx="761760" cy="457200"/>
          </a:xfrm>
          <a:prstGeom prst="line">
            <a:avLst/>
          </a:prstGeom>
          <a:ln cap="rnd" w="9360">
            <a:solidFill>
              <a:srgbClr val="0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3505320"/>
            <a:ext cx="152640" cy="152280"/>
          </a:xfrm>
          <a:prstGeom prst="line">
            <a:avLst/>
          </a:prstGeom>
          <a:ln w="76320">
            <a:solidFill>
              <a:srgbClr val="2121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Guided Practice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Now that you have been shown the procedure, it is your turn to try it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Perform each step slowly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Think it through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90720" y="160020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Work Time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Work Time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It’s time to try it on your own.  You will pair up with a partner and for the next 30 minutes practice showing others how to do interactive whiteboard maintenance so they can do it independently.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When the 30 minutes are up, we will come back together and discuss what you learned.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Work Time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12164"/>
                </a:solidFill>
                <a:latin typeface="Arial"/>
              </a:rPr>
              <a:t>Step 1 – Students … decide which partner will be the iSquader and the Student.</a:t>
            </a:r>
            <a:endParaRPr b="0" lang="en-US" sz="2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12164"/>
                </a:solidFill>
                <a:latin typeface="Arial"/>
              </a:rPr>
              <a:t>Step 2 - The iSquader will ask the Student what they know about doing interactive whiteboard maintenance.</a:t>
            </a:r>
            <a:endParaRPr b="0" lang="en-US" sz="2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12164"/>
                </a:solidFill>
                <a:latin typeface="Arial"/>
              </a:rPr>
              <a:t>Step 3 - The iSquader will explain to the Student the purpose of each of the procedures.</a:t>
            </a:r>
            <a:endParaRPr b="0" lang="en-US" sz="2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12164"/>
                </a:solidFill>
                <a:latin typeface="Arial"/>
              </a:rPr>
              <a:t>Step 4 - The iSquader will walk the Student through each step of interactive whiteboard maintenance.</a:t>
            </a:r>
            <a:endParaRPr b="0" lang="en-US" sz="2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12164"/>
                </a:solidFill>
                <a:latin typeface="Arial"/>
              </a:rPr>
              <a:t>Step 5 - When the activity is completed, the iSquader will have the Student review the steps of interactive whiteboard maintenance again.</a:t>
            </a:r>
            <a:endParaRPr b="0" lang="en-US" sz="2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12164"/>
                </a:solidFill>
                <a:latin typeface="Arial"/>
              </a:rPr>
              <a:t>Step 6 - Reverse Roles </a:t>
            </a:r>
            <a:endParaRPr b="0" lang="en-US" sz="2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90720" y="160020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Share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457200" y="2438280"/>
            <a:ext cx="8381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Now let’s do a follow up to what we have learned today: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1216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how dirt affects an interactive whiteboard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1216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 …</a:t>
            </a: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proper interactive whiteboard maintenance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1216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removing marks from permanent markers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1216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…  </a:t>
            </a: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assisting others on how to maintain 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interactive whiteboards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Share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457200" y="2438280"/>
            <a:ext cx="8381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Let’s Review …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Why is it important to keep your interactive whiteboard clean?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How do you maintain an interactive whiteboard?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How do you remove marks from permanent markers on an interactive whiteboard?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How does dry-eraser markers help clean the surface of an interactive whiteboard?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How can we assist others to independently maintain an interactive whiteboard?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Share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0" y="2057400"/>
            <a:ext cx="9144000" cy="4800600"/>
          </a:xfrm>
          <a:prstGeom prst="rect">
            <a:avLst/>
          </a:prstGeom>
          <a:solidFill>
            <a:srgbClr val="d9b18d"/>
          </a:solidFill>
          <a:ln w="9360">
            <a:solidFill>
              <a:srgbClr val="2121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12164"/>
                </a:solidFill>
                <a:latin typeface="Arial"/>
              </a:rPr>
              <a:t>Why is it important to keep your interactive whiteboard clean?</a:t>
            </a:r>
            <a:endParaRPr b="1" lang="en-US" sz="40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164"/>
                </a:solidFill>
                <a:latin typeface="Arial"/>
              </a:rPr>
              <a:t>Answer:</a:t>
            </a:r>
            <a:endParaRPr b="0" lang="en-US" sz="36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164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Dirt is the biggest enemy of an interactive whiteboard.  Sensors will see the dirt and assume that the pen or eraser is in the holder and will not operate properly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Focusing Questions</a:t>
            </a:r>
            <a:br>
              <a:rPr sz="4400"/>
            </a:b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82880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Why is it important to keep your interactive whiteboard clean?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How do you maintain an interactive whiteboard?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How do you remove marks from permanent markers on an interactive whiteboard?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How does dry-eraser markers help clean the surface of an interactive whiteboard?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How can we assist others to independently maintain an interactive whiteboard?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2057400"/>
            <a:ext cx="9144000" cy="4800600"/>
          </a:xfrm>
          <a:prstGeom prst="rect">
            <a:avLst/>
          </a:prstGeom>
          <a:solidFill>
            <a:srgbClr val="d9b18d"/>
          </a:solidFill>
          <a:ln w="9360">
            <a:solidFill>
              <a:srgbClr val="2121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1920" y="198360"/>
            <a:ext cx="8991720" cy="14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12164"/>
                </a:solidFill>
                <a:latin typeface="Arial"/>
              </a:rPr>
              <a:t>How do you maintain an</a:t>
            </a:r>
            <a:br>
              <a:rPr sz="4000"/>
            </a:br>
            <a:r>
              <a:rPr b="1" lang="en-US" sz="4000" spc="-1" strike="noStrike">
                <a:solidFill>
                  <a:srgbClr val="212164"/>
                </a:solidFill>
                <a:latin typeface="Arial"/>
              </a:rPr>
              <a:t>interactive whiteboard?</a:t>
            </a:r>
            <a:endParaRPr b="1" lang="en-US" sz="40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Answer: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There are two places that should be cleaned on an interactive whiteboard: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21216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12164"/>
                </a:solidFill>
                <a:latin typeface="Arial"/>
              </a:rPr>
              <a:t>Pen and eraser holders</a:t>
            </a: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21216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12164"/>
                </a:solidFill>
                <a:latin typeface="Arial"/>
              </a:rPr>
              <a:t>Board surface</a:t>
            </a: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To clean the pen and eraser trays dampen a cotton swab and clean the sensor and get all corners inside the tray.  Use a soft cloth to dry the trays.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To clean the board surface spray window cleaner on a paper towel and wipe down the board surface.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This should be done on a weekly basis.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2133720"/>
            <a:ext cx="9144000" cy="4800600"/>
          </a:xfrm>
          <a:prstGeom prst="rect">
            <a:avLst/>
          </a:prstGeom>
          <a:solidFill>
            <a:srgbClr val="d9b18d"/>
          </a:solidFill>
          <a:ln w="9360">
            <a:solidFill>
              <a:srgbClr val="2121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90720" y="350640"/>
            <a:ext cx="7696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12164"/>
                </a:solidFill>
                <a:latin typeface="Arial"/>
              </a:rPr>
              <a:t>How do you remove marks from permanent markers on</a:t>
            </a:r>
            <a:br>
              <a:rPr sz="3200"/>
            </a:br>
            <a:r>
              <a:rPr b="1" lang="en-US" sz="3200" spc="-1" strike="noStrike">
                <a:solidFill>
                  <a:srgbClr val="212164"/>
                </a:solidFill>
                <a:latin typeface="Arial"/>
              </a:rPr>
              <a:t>an interactive whiteboard?</a:t>
            </a:r>
            <a:endParaRPr b="1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164"/>
                </a:solidFill>
                <a:latin typeface="Arial"/>
              </a:rPr>
              <a:t>Answer:</a:t>
            </a:r>
            <a:endParaRPr b="0" lang="en-US" sz="36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Use a dry-eraser marker and trace over the mark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While the ink is still wet, wipe with a soft cloth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If there are any traces of permanent ink left, spray the area with glass or whiteboard cleaner and wipe clean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2057400"/>
            <a:ext cx="9144000" cy="4800600"/>
          </a:xfrm>
          <a:prstGeom prst="rect">
            <a:avLst/>
          </a:prstGeom>
          <a:solidFill>
            <a:srgbClr val="d9b18d"/>
          </a:solidFill>
          <a:ln w="9360">
            <a:solidFill>
              <a:srgbClr val="2121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800100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12164"/>
                </a:solidFill>
                <a:latin typeface="Arial"/>
              </a:rPr>
              <a:t>How does dry-eraser markers</a:t>
            </a:r>
            <a:br>
              <a:rPr sz="3200"/>
            </a:br>
            <a:r>
              <a:rPr b="1" lang="en-US" sz="3200" spc="-1" strike="noStrike">
                <a:solidFill>
                  <a:srgbClr val="212164"/>
                </a:solidFill>
                <a:latin typeface="Arial"/>
              </a:rPr>
              <a:t>help clean the surface of an</a:t>
            </a:r>
            <a:br>
              <a:rPr sz="3200"/>
            </a:br>
            <a:r>
              <a:rPr b="1" lang="en-US" sz="3200" spc="-1" strike="noStrike">
                <a:solidFill>
                  <a:srgbClr val="212164"/>
                </a:solidFill>
                <a:latin typeface="Arial"/>
              </a:rPr>
              <a:t>interactive whiteboard?</a:t>
            </a:r>
            <a:endParaRPr b="1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164"/>
                </a:solidFill>
                <a:latin typeface="Arial"/>
              </a:rPr>
              <a:t>Answer:</a:t>
            </a:r>
            <a:endParaRPr b="0" lang="en-US" sz="36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The solvents in dry-erase ink remove permanent ink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When removing permanent marker ink, avoid using low-odor or non-scented dry eraser markers because they do not contain the appropriate solvents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0" y="2057400"/>
            <a:ext cx="9144000" cy="4800600"/>
          </a:xfrm>
          <a:prstGeom prst="rect">
            <a:avLst/>
          </a:prstGeom>
          <a:solidFill>
            <a:srgbClr val="d9b18d"/>
          </a:solidFill>
          <a:ln w="9360">
            <a:solidFill>
              <a:srgbClr val="2121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3059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12164"/>
                </a:solidFill>
                <a:latin typeface="Arial"/>
              </a:rPr>
              <a:t>How can we assist others to independently maintain</a:t>
            </a:r>
            <a:br>
              <a:rPr sz="3200"/>
            </a:br>
            <a:r>
              <a:rPr b="1" lang="en-US" sz="3200" spc="-1" strike="noStrike">
                <a:solidFill>
                  <a:srgbClr val="212164"/>
                </a:solidFill>
                <a:latin typeface="Arial"/>
              </a:rPr>
              <a:t>an interactive whiteboard?</a:t>
            </a:r>
            <a:endParaRPr b="1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164"/>
                </a:solidFill>
                <a:latin typeface="Arial"/>
              </a:rPr>
              <a:t>Share what worked for you and your partner.</a:t>
            </a:r>
            <a:endParaRPr b="0" lang="en-US" sz="3600" spc="-1" strike="noStrike">
              <a:solidFill>
                <a:srgbClr val="212164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175248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Instruction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Framing The Session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8381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One of the common complaints that students and teachers have about their school’s technology, many times it does not work.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Due to heavy usage everyday, equipment will begin to breakdown. 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Today, we going to learn how to maintain an interactive whiteboard and share that information with other students.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Teaching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Before you clean an interactive whiteboard … shut down the computer and the projector.  This should be done for two reasons: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1216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Cleansers and live sensors do not mix.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1216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You will see dirt and streaks much easier with the unit powered off.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Let’s get started …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Teaching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There are two places that should be cleaned on an interactive whiteboard: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21216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Pen and eraser holders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21216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Board surface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Dirt is the biggest enemy of an interactive whiteboard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nsors will see the dirt and assume that the pen or eraser is in the holder and will not operate properly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Teaching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To clean the pen and eraser trays dampen a cotton swab and clean the sensor and get all corners inside the tray.  Use a soft cloth to dry the trays.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4724280" y="2133720"/>
            <a:ext cx="4038840" cy="3797280"/>
            <a:chOff x="4724280" y="2133720"/>
            <a:chExt cx="4038840" cy="3797280"/>
          </a:xfrm>
        </p:grpSpPr>
        <p:pic>
          <p:nvPicPr>
            <p:cNvPr id="105" name="" descr=""/>
            <p:cNvPicPr/>
            <p:nvPr/>
          </p:nvPicPr>
          <p:blipFill>
            <a:blip r:embed="rId1"/>
            <a:stretch/>
          </p:blipFill>
          <p:spPr>
            <a:xfrm>
              <a:off x="4724280" y="3581280"/>
              <a:ext cx="3981600" cy="234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 flipH="1">
              <a:off x="5029200" y="4419720"/>
              <a:ext cx="990720" cy="304560"/>
            </a:xfrm>
            <a:prstGeom prst="line">
              <a:avLst/>
            </a:prstGeom>
            <a:ln w="936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12164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4813200" y="2133720"/>
              <a:ext cx="3949920" cy="932040"/>
              <a:chOff x="4813200" y="2133720"/>
              <a:chExt cx="3949920" cy="932040"/>
            </a:xfrm>
          </p:grpSpPr>
          <p:pic>
            <p:nvPicPr>
              <p:cNvPr id="108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813200" y="2133720"/>
                <a:ext cx="3949920" cy="925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" name=""/>
              <p:cNvSpPr/>
              <p:nvPr/>
            </p:nvSpPr>
            <p:spPr>
              <a:xfrm flipH="1">
                <a:off x="4876920" y="2514600"/>
                <a:ext cx="457200" cy="76320"/>
              </a:xfrm>
              <a:prstGeom prst="line">
                <a:avLst/>
              </a:prstGeom>
              <a:ln w="9360">
                <a:solidFill>
                  <a:srgbClr val="99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212164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flipH="1">
                <a:off x="4876920" y="2286000"/>
                <a:ext cx="457200" cy="0"/>
              </a:xfrm>
              <a:prstGeom prst="line">
                <a:avLst/>
              </a:prstGeom>
              <a:ln w="9360">
                <a:solidFill>
                  <a:srgbClr val="99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212164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400800" y="2286000"/>
                <a:ext cx="457200" cy="0"/>
              </a:xfrm>
              <a:prstGeom prst="line">
                <a:avLst/>
              </a:prstGeom>
              <a:ln w="9360">
                <a:solidFill>
                  <a:srgbClr val="99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212164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400800" y="2514600"/>
                <a:ext cx="533520" cy="76320"/>
              </a:xfrm>
              <a:prstGeom prst="line">
                <a:avLst/>
              </a:prstGeom>
              <a:ln w="9360">
                <a:solidFill>
                  <a:srgbClr val="99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212164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867280" y="2286000"/>
                <a:ext cx="0" cy="533520"/>
              </a:xfrm>
              <a:prstGeom prst="line">
                <a:avLst/>
              </a:prstGeom>
              <a:ln w="9360">
                <a:solidFill>
                  <a:srgbClr val="99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12164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181480" y="2819520"/>
                <a:ext cx="1447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990000"/>
                    </a:solidFill>
                    <a:latin typeface="Arial"/>
                  </a:rPr>
                  <a:t>SENSOR</a:t>
                </a:r>
                <a:endParaRPr b="0" lang="en-US" sz="1000" spc="-1" strike="noStrike">
                  <a:solidFill>
                    <a:srgbClr val="212164"/>
                  </a:solidFill>
                  <a:latin typeface="Arial"/>
                </a:endParaRPr>
              </a:p>
            </p:txBody>
          </p:sp>
        </p:grpSp>
        <p:sp>
          <p:nvSpPr>
            <p:cNvPr id="115" name=""/>
            <p:cNvSpPr/>
            <p:nvPr/>
          </p:nvSpPr>
          <p:spPr>
            <a:xfrm flipH="1" flipV="1">
              <a:off x="5105520" y="3886200"/>
              <a:ext cx="761760" cy="76320"/>
            </a:xfrm>
            <a:prstGeom prst="line">
              <a:avLst/>
            </a:prstGeom>
            <a:ln w="936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212164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7543800" y="3886200"/>
              <a:ext cx="914400" cy="76320"/>
            </a:xfrm>
            <a:prstGeom prst="line">
              <a:avLst/>
            </a:prstGeom>
            <a:ln w="936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212164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467480" y="4495680"/>
              <a:ext cx="990720" cy="2286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12164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781680" y="4114800"/>
              <a:ext cx="0" cy="609480"/>
            </a:xfrm>
            <a:prstGeom prst="line">
              <a:avLst/>
            </a:prstGeom>
            <a:ln w="936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12164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019920" y="3870360"/>
              <a:ext cx="1447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990000"/>
                  </a:solidFill>
                  <a:latin typeface="Arial"/>
                </a:rPr>
                <a:t>SENSOR</a:t>
              </a:r>
              <a:endParaRPr b="0" lang="en-US" sz="1000" spc="-1" strike="noStrike">
                <a:solidFill>
                  <a:srgbClr val="212164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Teaching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3809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To clean the board surface spray window cleaner on a paper towel and wipe down the board surface.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This should be done on a weekly basis.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648320" y="2768760"/>
            <a:ext cx="3936960" cy="18795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6934320" y="2819520"/>
            <a:ext cx="1828800" cy="2037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Board Surface</a:t>
            </a: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724280" y="2895480"/>
            <a:ext cx="2133720" cy="1524240"/>
          </a:xfrm>
          <a:prstGeom prst="rect">
            <a:avLst/>
          </a:prstGeom>
          <a:solidFill>
            <a:srgbClr val="ffffff"/>
          </a:solidFill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Teaching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If there are any  marks on the interactive white caused by a permanent marker, do the following: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952880" y="2514600"/>
            <a:ext cx="3581640" cy="3124080"/>
          </a:xfrm>
          <a:prstGeom prst="rect">
            <a:avLst/>
          </a:prstGeom>
          <a:solidFill>
            <a:srgbClr val="ffffff"/>
          </a:solidFill>
          <a:ln w="38160">
            <a:solidFill>
              <a:srgbClr val="2121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562720" y="3200400"/>
            <a:ext cx="533160" cy="533520"/>
          </a:xfrm>
          <a:prstGeom prst="line">
            <a:avLst/>
          </a:prstGeom>
          <a:ln w="76320">
            <a:solidFill>
              <a:srgbClr val="2121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ward A. Fitzgerald Sr.</cp:lastModifiedBy>
  <dcterms:modified xsi:type="dcterms:W3CDTF">2007-03-12T11:21:39Z</dcterms:modified>
  <cp:revision>53</cp:revision>
  <dc:subject/>
  <dc:title>Workshop Title</dc:title>
</cp:coreProperties>
</file>